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DEE-3BEB-4925-9FD1-0998CA53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136-9D5C-4C80-863A-164499C4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574-F546-4FAF-A3DA-CCAEC290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9BE-9B52-4631-B430-E1CD0FA1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4354-4359-4F1E-B77D-323048CE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3C3-832E-4AC0-BBEE-28C8E4E9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E9E-768D-40B2-B490-D6566F2B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1E8-A07C-4E82-BB45-A9AC42C3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A0B-C20B-40F6-9B6E-B9AC82A3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5E2-FCEB-4A4F-8564-1AFDA647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28A-8CF7-4062-B9C7-0087981F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A5E-4BA2-4CC5-8F33-9B66704D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4EEC-3FB4-4DAC-823C-CA56B3B2F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7160" y="490680"/>
            <a:ext cx="82746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ld colloids on mica covered with polylys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ul polylysine (3.5 mg/ml in d.i. wa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freshly cleaved mica for 1 min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nse with d.i. water and dry in nitrogen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th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ul goild colloids (fridge 702, Sigma *) dilluted 1:10 in d.i. wa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5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nse with d.i. water and dry in nitrogen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e the sample in the desic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AGE: see next slid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Gold colloid 5 nm, Sigma G-1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centration approx. 0.01% as HAuCl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ophysical Journal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92-997, 199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lloids1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4470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7:48:43Z</dcterms:created>
  <dc:creator>Dionne</dc:creator>
  <dc:description/>
  <dc:language>en-US</dc:language>
  <cp:lastModifiedBy>Henriette Jensenius</cp:lastModifiedBy>
  <dcterms:modified xsi:type="dcterms:W3CDTF">2003-05-21T09:51:10Z</dcterms:modified>
  <cp:revision>3</cp:revision>
  <dc:subject/>
  <dc:title>PowerPoint Presentation</dc:title>
</cp:coreProperties>
</file>